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1B3E5C-9383-4982-AC73-F7FD8DC3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74F414-8C38-4549-B21C-B394E0D1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DCD167-3989-440B-9FA2-CB1B02BD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E1ED17-C39F-4641-829C-9A4E717F8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62108B-63B6-4823-BCE8-2065EE69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B1D84D-60BB-42E3-A6DD-874AB1C7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7DC0BD-B5C2-48C3-B8F2-8AD7EEE6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FE3D38-D7E0-47C9-A3FD-535DC51C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990E8E-CBC2-454D-B313-79E65722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BB5621-2FA0-4174-A066-04C27529F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FD1F53-97B6-4913-ABB6-A25A3AA6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B9CE3A-21BB-4209-8AB7-DC06BECA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A12F21-58E2-4C60-95E6-A5B54B57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7C4450-68D0-4C49-8A47-08A0BF70D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E84764-4119-4E49-B7BF-773E2BEF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8F7381-79A9-48AB-81D7-EFA47B68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B2404C-13C9-4BE6-B691-40CD1D25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71529D-4AF5-4E18-9F83-4B505E308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926077-201E-4C15-91FC-AE0F0116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CC8112-2887-4945-AB86-FDFB64FA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23C5C2-C28F-4E46-A2C0-D27E7E21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3DBFF-1F7A-4BA6-AAD8-D92C85BC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410D77-1D84-4F4E-A258-D6B801EB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D71057-9AAF-46BC-ABFA-C31FBA83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00C4B8-389E-4F31-80DF-21E5EB4C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FD0D9B-A60E-4EFF-B832-CF554198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432CE-B358-4947-BAB2-CAE21979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E8F-C8BC-47E9-8AD2-D106ED58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B9E-EB14-430D-B6E2-51E0E4D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B6F-A62A-4C9D-ACB5-3B58642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6F8-4C96-4B1F-B50E-C6950BE6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907-6488-48A9-B54C-72E52A36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1AA-6C9B-44E8-883D-5917F53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330-5312-4219-AD57-774DA37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D9A-14E8-4FC8-A251-A8D899AF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507-9F1E-47A9-BCB7-6EE5FFC6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B5C-6A02-4900-9871-0E65D4D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44D-EA33-478D-95C3-FE31E8DF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C42-05B7-4B8E-AE3B-D60250C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37F-CC6E-4F7B-AEE2-48B98E69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veuse"/>
              </a:rPr>
              <a:t>Evolu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5562720"/>
            <a:ext cx="3124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ue Highway"/>
              </a:rPr>
              <a:t>Mr. O’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ue Highway"/>
              </a:rPr>
              <a:t>Jefferson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Tendency Toward Per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715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nnate tendency toward complexity and per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ontinually changing and acquiring features that help them live more successfully in thei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Example: 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ncestors of birds acquired an urge to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over many generations, birds kept trying to fly, &amp; their wings increased in size and became more suited to f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cestor of birds"/>
          <p:cNvPicPr/>
          <p:nvPr/>
        </p:nvPicPr>
        <p:blipFill>
          <a:blip r:embed="rId1"/>
          <a:stretch/>
        </p:blipFill>
        <p:spPr>
          <a:xfrm>
            <a:off x="4724280" y="2209680"/>
            <a:ext cx="441972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Selective Use Or Dis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Proposal that organisms could alter the size or shape of particular organs by using their bodies in new wa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Example:  Bir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By trying to use their front limbs for flying, birds could eventually transform those limbs into w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lue Highway"/>
              </a:rPr>
              <a:t>If winged animal did not use wings, the wings would decrease in size over generation and finally disappe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Inheritance of Acquired Tra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Acquired characteristics could b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longer legs or fluffier feather, would be passed on to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f you spent much of your life lifting weights to build muscles, your children would inherit big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Problems With Lamarck’s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Incorrect in several wa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Did not know how traits are inherited (via genetics/D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Organism’s behavior has no effect on its inheritable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Darwin’s Explanation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Natural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differences among individuals of the sam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Artifici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ture provides variation among different organisms, and humans select those variations that they find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lso known as selective breeding, done by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determine which individuals to use for breeding based on the natural variation that they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only the largest hogs, the fastest horses, or the cows that gave the most milk are selected to produc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rtificial selection in peppers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veuse"/>
              </a:rPr>
              <a:t>Can Nature Select Var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truggle for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embers of each species compete regularly to obtain food, living space, and other necessitat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edators that are faster or have a better way of catching prey will in turn catch more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ey that are faster, better camouflaged, or better protected can avoid being c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The ability of an individual to survive and reproduce in its specif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sult of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ny inherited characteristic that increases an organism’s chance of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Survival of the Fit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lion"/>
          <p:cNvPicPr/>
          <p:nvPr/>
        </p:nvPicPr>
        <p:blipFill>
          <a:blip r:embed="rId1"/>
          <a:stretch/>
        </p:blipFill>
        <p:spPr>
          <a:xfrm>
            <a:off x="380880" y="1676520"/>
            <a:ext cx="4724640" cy="44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omestic cat"/>
          <p:cNvPicPr/>
          <p:nvPr/>
        </p:nvPicPr>
        <p:blipFill>
          <a:blip r:embed="rId2"/>
          <a:srcRect l="15153" t="8353" r="9094" b="0"/>
          <a:stretch/>
        </p:blipFill>
        <p:spPr>
          <a:xfrm>
            <a:off x="6172200" y="4495680"/>
            <a:ext cx="190512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334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7200" y="2209680"/>
            <a:ext cx="792468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100" spc="-1" strike="noStrike">
                <a:solidFill>
                  <a:srgbClr val="ff0000"/>
                </a:solidFill>
                <a:latin typeface="HGSSoeiKakupoptai"/>
                <a:ea typeface="HGSSoeiKakupoptai"/>
              </a:rPr>
              <a:t>NOT</a:t>
            </a:r>
            <a:endParaRPr b="0" lang="en-US" sz="2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veuse"/>
              </a:rPr>
              <a:t>Natural selection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Baveuse"/>
              </a:rPr>
              <a:t>(Survival of the Fitte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ndividuals that are better suited to their environment – that is, with high levels of fitness – survive and reproduce most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Results – changes in the inherited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changes increase a species’ fitness in it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Descent with Mod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ach living species has descended, with changes, from other speci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mplies:  all living organisms are related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57200" y="4114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Common Des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57200" y="51814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All species – living and extinct – were derived from common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5"/>
          <p:cNvSpPr/>
          <p:nvPr/>
        </p:nvSpPr>
        <p:spPr>
          <a:xfrm>
            <a:off x="4038480" y="3124080"/>
            <a:ext cx="609840" cy="106704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What is Evolu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Evolution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ang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the process by which modern organisms have descended from ancient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 well supported testable explanation of phenomena that have occurred in the natur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Similar Body Stru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447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mong the body parts of animals with backbones (verteb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omologous body structures.gif"/>
          <p:cNvPicPr/>
          <p:nvPr/>
        </p:nvPicPr>
        <p:blipFill>
          <a:blip r:embed="rId1"/>
          <a:stretch/>
        </p:blipFill>
        <p:spPr>
          <a:xfrm>
            <a:off x="2514600" y="2209680"/>
            <a:ext cx="373392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380880" y="54100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The limbs differ in form and function, but they are all constructed from the same basic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What Else Causes Chan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ny change in a sequenc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Movement of individuals betwee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How characteristics move throughout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anges occur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istakes in DNA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iation or chemicals i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hiroshima.jpg"/>
          <p:cNvPicPr/>
          <p:nvPr/>
        </p:nvPicPr>
        <p:blipFill>
          <a:blip r:embed="rId1"/>
          <a:stretch/>
        </p:blipFill>
        <p:spPr>
          <a:xfrm>
            <a:off x="228600" y="2362320"/>
            <a:ext cx="4191120" cy="261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iroshima 2.jpg"/>
          <p:cNvPicPr/>
          <p:nvPr/>
        </p:nvPicPr>
        <p:blipFill>
          <a:blip r:embed="rId2"/>
          <a:stretch/>
        </p:blipFill>
        <p:spPr>
          <a:xfrm>
            <a:off x="4724280" y="2362320"/>
            <a:ext cx="4210200" cy="2692440"/>
          </a:xfrm>
          <a:prstGeom prst="rect">
            <a:avLst/>
          </a:prstGeom>
          <a:ln w="0">
            <a:noFill/>
          </a:ln>
        </p:spPr>
      </p:pic>
      <p:sp>
        <p:nvSpPr>
          <p:cNvPr id="103" name="Content Placeholder 2"/>
          <p:cNvSpPr/>
          <p:nvPr/>
        </p:nvSpPr>
        <p:spPr>
          <a:xfrm>
            <a:off x="304920" y="50292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  <a:ea typeface="Arial"/>
              </a:rPr>
              <a:t>Mutations do not always affect an organisms phenotype (visible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  <a:ea typeface="Arial"/>
              </a:rPr>
              <a:t>Some affect an organisms ability to survive and reproduce in it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veuse"/>
              </a:rPr>
              <a:t>How could a mutation affect a population of d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Mistake in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babies still-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lack of body part or correct development of a vital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emicals in the environment (water 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kills off weaker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ales/females become infer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babies still-born or born with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Change in ability to survive and 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change in coloring of 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different mating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also referred to as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ovement of individuals into an area occupied by an existin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movement of individuals out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Summing Junction 3"/>
          <p:cNvSpPr/>
          <p:nvPr/>
        </p:nvSpPr>
        <p:spPr>
          <a:xfrm>
            <a:off x="7620120" y="27432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Summing Junction 4"/>
          <p:cNvSpPr/>
          <p:nvPr/>
        </p:nvSpPr>
        <p:spPr>
          <a:xfrm>
            <a:off x="6858000" y="30481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Summing Junction 5"/>
          <p:cNvSpPr/>
          <p:nvPr/>
        </p:nvSpPr>
        <p:spPr>
          <a:xfrm>
            <a:off x="6477120" y="266688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Summing Junction 6"/>
          <p:cNvSpPr/>
          <p:nvPr/>
        </p:nvSpPr>
        <p:spPr>
          <a:xfrm>
            <a:off x="6400800" y="35812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Summing Junction 7"/>
          <p:cNvSpPr/>
          <p:nvPr/>
        </p:nvSpPr>
        <p:spPr>
          <a:xfrm>
            <a:off x="5943600" y="28195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owchart: Summing Junction 8"/>
          <p:cNvSpPr/>
          <p:nvPr/>
        </p:nvSpPr>
        <p:spPr>
          <a:xfrm>
            <a:off x="5334120" y="32004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lowchart: Summing Junction 9"/>
          <p:cNvSpPr/>
          <p:nvPr/>
        </p:nvSpPr>
        <p:spPr>
          <a:xfrm>
            <a:off x="8001000" y="33526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Summing Junction 10"/>
          <p:cNvSpPr/>
          <p:nvPr/>
        </p:nvSpPr>
        <p:spPr>
          <a:xfrm>
            <a:off x="7391520" y="36576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lowchart: Or 11"/>
          <p:cNvSpPr/>
          <p:nvPr/>
        </p:nvSpPr>
        <p:spPr>
          <a:xfrm>
            <a:off x="3733920" y="3200400"/>
            <a:ext cx="30456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owchart: Or 12"/>
          <p:cNvSpPr/>
          <p:nvPr/>
        </p:nvSpPr>
        <p:spPr>
          <a:xfrm>
            <a:off x="990720" y="3429000"/>
            <a:ext cx="30456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owchart: Or 13"/>
          <p:cNvSpPr/>
          <p:nvPr/>
        </p:nvSpPr>
        <p:spPr>
          <a:xfrm>
            <a:off x="1219320" y="2971800"/>
            <a:ext cx="30456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owchart: Or 14"/>
          <p:cNvSpPr/>
          <p:nvPr/>
        </p:nvSpPr>
        <p:spPr>
          <a:xfrm>
            <a:off x="3886200" y="3809880"/>
            <a:ext cx="30492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owchart: Or 15"/>
          <p:cNvSpPr/>
          <p:nvPr/>
        </p:nvSpPr>
        <p:spPr>
          <a:xfrm>
            <a:off x="609480" y="2819520"/>
            <a:ext cx="304920" cy="30456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Or 16"/>
          <p:cNvSpPr/>
          <p:nvPr/>
        </p:nvSpPr>
        <p:spPr>
          <a:xfrm>
            <a:off x="1676520" y="3505320"/>
            <a:ext cx="304560" cy="30456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ight Arrow 17"/>
          <p:cNvSpPr/>
          <p:nvPr/>
        </p:nvSpPr>
        <p:spPr>
          <a:xfrm>
            <a:off x="4114800" y="327672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lowchart: Summing Junction 18"/>
          <p:cNvSpPr/>
          <p:nvPr/>
        </p:nvSpPr>
        <p:spPr>
          <a:xfrm>
            <a:off x="6477120" y="6019920"/>
            <a:ext cx="30456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lowchart: Summing Junction 19"/>
          <p:cNvSpPr/>
          <p:nvPr/>
        </p:nvSpPr>
        <p:spPr>
          <a:xfrm>
            <a:off x="6781680" y="548640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lowchart: Summing Junction 20"/>
          <p:cNvSpPr/>
          <p:nvPr/>
        </p:nvSpPr>
        <p:spPr>
          <a:xfrm>
            <a:off x="5943600" y="63244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Summing Junction 21"/>
          <p:cNvSpPr/>
          <p:nvPr/>
        </p:nvSpPr>
        <p:spPr>
          <a:xfrm>
            <a:off x="6019920" y="5334120"/>
            <a:ext cx="30456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owchart: Summing Junction 22"/>
          <p:cNvSpPr/>
          <p:nvPr/>
        </p:nvSpPr>
        <p:spPr>
          <a:xfrm>
            <a:off x="5638680" y="57913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lowchart: Or 23"/>
          <p:cNvSpPr/>
          <p:nvPr/>
        </p:nvSpPr>
        <p:spPr>
          <a:xfrm>
            <a:off x="1371600" y="3809880"/>
            <a:ext cx="30492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lowchart: Or 24"/>
          <p:cNvSpPr/>
          <p:nvPr/>
        </p:nvSpPr>
        <p:spPr>
          <a:xfrm>
            <a:off x="1752480" y="2895480"/>
            <a:ext cx="304920" cy="304920"/>
          </a:xfrm>
          <a:prstGeom prst="flowChartOr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Summing Junction 25"/>
          <p:cNvSpPr/>
          <p:nvPr/>
        </p:nvSpPr>
        <p:spPr>
          <a:xfrm>
            <a:off x="7924680" y="62485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Summing Junction 26"/>
          <p:cNvSpPr/>
          <p:nvPr/>
        </p:nvSpPr>
        <p:spPr>
          <a:xfrm>
            <a:off x="7238880" y="6019920"/>
            <a:ext cx="304920" cy="30456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Summing Junction 27"/>
          <p:cNvSpPr/>
          <p:nvPr/>
        </p:nvSpPr>
        <p:spPr>
          <a:xfrm>
            <a:off x="7696080" y="5410080"/>
            <a:ext cx="30492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Summing Junction 28"/>
          <p:cNvSpPr/>
          <p:nvPr/>
        </p:nvSpPr>
        <p:spPr>
          <a:xfrm>
            <a:off x="3276720" y="541008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Summing Junction 29"/>
          <p:cNvSpPr/>
          <p:nvPr/>
        </p:nvSpPr>
        <p:spPr>
          <a:xfrm>
            <a:off x="3276720" y="6172200"/>
            <a:ext cx="304560" cy="304920"/>
          </a:xfrm>
          <a:prstGeom prst="flowChartSummingJunction">
            <a:avLst/>
          </a:prstGeom>
          <a:solidFill>
            <a:srgbClr val="c656b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Arrow 30"/>
          <p:cNvSpPr/>
          <p:nvPr/>
        </p:nvSpPr>
        <p:spPr>
          <a:xfrm>
            <a:off x="2286000" y="563868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How could migration affect an existing 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5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oss of a specific foo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oss of mates or increased number of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oss of 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ncreased foo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vulnerability to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Genetic Dri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may occur when a small group of individuals colonizes a new habit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ue Highway"/>
              </a:rPr>
              <a:t>occurs by chance:  the chance that particular characteristics were in one or more of the founding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Charle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Darw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He made numerous observations and collected evidence that led him to propose a revolutiona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lue Highway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 about the way life chang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Preserved remains of ancient organisms, call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Some resembled organism that were still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Most influential islands were the Galapagos Islands west of South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The Galapagos Isla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Islands were close together but had very different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ome had sparse vegetation, others had greater rainfall and a rich veg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Because of these differences there were variations in the organisms that Darwin journaled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ortoise 1"/>
          <p:cNvPicPr/>
          <p:nvPr/>
        </p:nvPicPr>
        <p:blipFill>
          <a:blip r:embed="rId1"/>
          <a:stretch/>
        </p:blipFill>
        <p:spPr>
          <a:xfrm>
            <a:off x="380880" y="4191120"/>
            <a:ext cx="2971800" cy="190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ortoise 2"/>
          <p:cNvPicPr/>
          <p:nvPr/>
        </p:nvPicPr>
        <p:blipFill>
          <a:blip r:embed="rId2"/>
          <a:stretch/>
        </p:blipFill>
        <p:spPr>
          <a:xfrm>
            <a:off x="3505320" y="419112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tortoise 3"/>
          <p:cNvPicPr/>
          <p:nvPr/>
        </p:nvPicPr>
        <p:blipFill>
          <a:blip r:embed="rId3"/>
          <a:stretch/>
        </p:blipFill>
        <p:spPr>
          <a:xfrm>
            <a:off x="6172200" y="4038480"/>
            <a:ext cx="2476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In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aveuse"/>
              </a:rPr>
              <a:t>Meantim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fossil records were challenging the traditional view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some scientists even adjusted their beliefs to include not one but several periods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ach of these periods, they contended, was preceded by a catastrophic event that killed off many form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veuse"/>
              </a:rPr>
              <a:t>Geological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layers of rock form very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ome rocks are moved up by forces beneath Earth’s surface like the mountain ranges that were pushed up from the sea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this helps explains why fossils of marine animals  can be found many feet above the present sea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some are buried (dinosaur foss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rocks, mountains and valleys are then shaped by a variety of natural fo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in, heat, and cold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most of these geological processes operate extremely slowly, often over millions of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eological evolution"/>
          <p:cNvPicPr/>
          <p:nvPr/>
        </p:nvPicPr>
        <p:blipFill>
          <a:blip r:embed="rId1"/>
          <a:srcRect l="12505" t="0" r="4166" b="0"/>
          <a:stretch/>
        </p:blipFill>
        <p:spPr>
          <a:xfrm>
            <a:off x="0" y="457200"/>
            <a:ext cx="9144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geological evolution 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ere there any theories before Darw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Jean-Baptiste Lamar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One of the first scientists to recognize that living things have changed over time, species were descended form other species, and organisms adapt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Tendency Toward Per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Selective Use or Dis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lue Highwa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Inheritance of Acquir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lue Highway"/>
              </a:rPr>
              <a:t>Example: 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2:27:22Z</dcterms:created>
  <dc:creator>Amy Lynn Sanford</dc:creator>
  <dc:description/>
  <dc:language>en-US</dc:language>
  <cp:lastModifiedBy>joconnor</cp:lastModifiedBy>
  <dcterms:modified xsi:type="dcterms:W3CDTF">2009-10-19T13:21:54Z</dcterms:modified>
  <cp:revision>35</cp:revision>
  <dc:subject/>
  <dc:title>Evolution</dc:title>
</cp:coreProperties>
</file>